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1E88-EF7A-4F63-A94B-A6EC6C2B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695-AF40-48B8-BC9D-4DCA89A7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3883-719C-4E5D-8530-7272F1A4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AFC3-A802-4D2B-AD71-483B56AC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79A-F903-41B1-9ED4-03388413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4190-B194-4C4A-B3F5-8755689A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B7A-75C6-4C44-B3F7-A74354BD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6E20-D7A3-416F-B6DB-0412A56B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0391-A7C2-45D9-962E-FF388FF2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F05-6CC5-4DCC-B862-952C9000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138-BA8B-4B27-B890-30ED7B56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4DA-7520-44C4-B87C-E9FEAFF2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1EE4-A771-45C5-AE75-31602BB91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fidnet.com/~dap1955/dickens/index.html" TargetMode="External"/><Relationship Id="rId3" Type="http://schemas.openxmlformats.org/officeDocument/2006/relationships/hyperlink" Target="http://www.fidnet.com/~dap1955/dickens/index.html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dnet.com/~dap1955/dickens/carol.html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Introducing:</a:t>
            </a:r>
            <a:br>
              <a:rPr sz="3600"/>
            </a:br>
            <a:r>
              <a:rPr b="1" lang="en-US" sz="8000" spc="-1" strike="noStrike">
                <a:solidFill>
                  <a:srgbClr val="ffffff"/>
                </a:solidFill>
                <a:latin typeface="Edwardian Script ITC"/>
              </a:rPr>
              <a:t>Great Expectatio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dwardian Script ITC"/>
              </a:rPr>
              <a:t>a novel by</a:t>
            </a:r>
            <a:r>
              <a:rPr b="0" lang="en-US" sz="700" spc="-1" strike="noStrike">
                <a:solidFill>
                  <a:srgbClr val="ffffff"/>
                </a:solidFill>
                <a:latin typeface="Edwardian Script ITC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Edwardian Script ITC"/>
              </a:rPr>
              <a:t>Charles Dicke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rections: Use  the following link to fill in each of the following slides: 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fidnet.com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/~dap1955/dickens/inde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2727"/>
                </a:solidFill>
                <a:latin typeface="Baskerville Old Face"/>
              </a:rPr>
              <a:t>Mr. Dickens- </a:t>
            </a:r>
            <a:r>
              <a:rPr b="1" lang="en-US" sz="1600" spc="-1" strike="noStrike">
                <a:solidFill>
                  <a:srgbClr val="ff2727"/>
                </a:solidFill>
                <a:latin typeface="Baskerville Old Face"/>
              </a:rPr>
              <a:t>Look at the home page,</a:t>
            </a:r>
            <a:r>
              <a:rPr b="1" lang="en-US" sz="1600" spc="-1" strike="noStrike">
                <a:solidFill>
                  <a:srgbClr val="ff2727"/>
                </a:solidFill>
                <a:latin typeface="Baskerville Old Face"/>
              </a:rPr>
              <a:t>  </a:t>
            </a:r>
            <a:r>
              <a:rPr b="1" lang="en-US" sz="1600" spc="-1" strike="noStrike">
                <a:solidFill>
                  <a:srgbClr val="ff2727"/>
                </a:solidFill>
                <a:latin typeface="Baskerville Old Face"/>
              </a:rPr>
              <a:t>Fast Facts, and Family and Friends lin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86200" cy="548640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askerville Old Face"/>
              </a:rPr>
              <a:t>Dickens as a chi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6633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askerville Old Face"/>
              </a:rPr>
              <a:t>When was he bor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6633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askerville Old Face"/>
              </a:rPr>
              <a:t>Who were his parents and give background info on th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6633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askerville Old Face"/>
              </a:rPr>
              <a:t>What was his relationship with his pare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6633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askerville Old Face"/>
              </a:rPr>
              <a:t>What were Dickens’ own early experiences (education, work, etc.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219320"/>
            <a:ext cx="3809880" cy="548640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askerville Old Face"/>
              </a:rPr>
              <a:t>Dickens as an ad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askerville Old Face"/>
              </a:rPr>
              <a:t>What was his family life lik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askerville Old Face"/>
              </a:rPr>
              <a:t>Where did he live most of his lif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askerville Old Face"/>
              </a:rPr>
              <a:t>Where was he buried and where did he want to be buri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His Work: </a:t>
            </a: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In the boxes below, record four of  dickens’ most famous works (includ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pperplate Gothic Bold"/>
              </a:rPr>
              <a:t>Great Expectations</a:t>
            </a: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) and write a short Description of each work and its major themes.  Use the link called “The Novel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38080" y="1981080"/>
          <a:ext cx="7620120" cy="3781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  <a:gridCol w="1905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Great Expect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liver Tw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 Christmas Ca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lackadder ITC"/>
              </a:rPr>
              <a:t>His Novels:</a:t>
            </a: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 Many of Dickens’ novels we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lackadder ITC"/>
              </a:rPr>
              <a:t>serial novels</a:t>
            </a: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.  What is the definition of a serial novel and explain the effect it has on the re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A View of Lon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adder ITC"/>
              </a:rPr>
              <a:t>How did Dickens perceive London and what role did it have on his writ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adder ITC"/>
              </a:rPr>
              <a:t>Dickens saw London a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81600" y="1981080"/>
            <a:ext cx="334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A Dickens Christm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tura MT Script Capitals"/>
              </a:rPr>
              <a:t>What influence did Dickens have on the way people celebrate Christmas?</a:t>
            </a:r>
            <a:r>
              <a:rPr b="0" lang="en-US" sz="2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A Christmas Carol - E. A. Abbey-187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19810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43000" y="3733920"/>
            <a:ext cx="33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tura MT Script Capitals"/>
              </a:rPr>
              <a:t>What traditions that we practice now came back into fashion during the Victorian 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iner Hand ITC"/>
              </a:rPr>
              <a:t>Great Expectations</a:t>
            </a: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: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Viner Hand ITC"/>
              </a:rPr>
              <a:t>Tid-bits and interesting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 the “Story Fortold” on the left hand side of 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Great Expectation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Restoration House and how does it show up i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Great Expecta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significance of “Beggar My Neighbor” i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Great Expecta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ok at the link of the forge and the honeymoon site of Dickens and his wif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“Transportation” in the novel?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5c891f"/>
                </a:solidFill>
                <a:uFillTx/>
                <a:latin typeface="Bradley Hand ITC"/>
              </a:rPr>
              <a:t>Great Expectations</a:t>
            </a:r>
            <a:r>
              <a:rPr b="1" lang="en-US" sz="4400" spc="-1" strike="noStrike">
                <a:solidFill>
                  <a:srgbClr val="5c891f"/>
                </a:solidFill>
                <a:latin typeface="Bradley Hand ITC"/>
              </a:rPr>
              <a:t> is considered one of Charles Dickens’ most brilliant novels.  </a:t>
            </a:r>
            <a:r>
              <a:rPr b="1" lang="en-US" sz="4400" spc="-1" strike="noStrike">
                <a:solidFill>
                  <a:srgbClr val="95d442"/>
                </a:solidFill>
                <a:latin typeface="Bradley Hand ITC"/>
              </a:rPr>
              <a:t>His use of plot</a:t>
            </a:r>
            <a:r>
              <a:rPr b="1" lang="en-US" sz="4400" spc="-1" strike="noStrike">
                <a:solidFill>
                  <a:srgbClr val="5c891f"/>
                </a:solidFill>
                <a:latin typeface="Bradley Hand ITC"/>
              </a:rPr>
              <a:t>, character </a:t>
            </a:r>
            <a:r>
              <a:rPr b="1" lang="en-US" sz="4400" spc="-1" strike="noStrike">
                <a:solidFill>
                  <a:srgbClr val="95d442"/>
                </a:solidFill>
                <a:latin typeface="Bradley Hand ITC"/>
              </a:rPr>
              <a:t>development, and</a:t>
            </a:r>
            <a:r>
              <a:rPr b="1" lang="en-US" sz="4400" spc="-1" strike="noStrike">
                <a:solidFill>
                  <a:srgbClr val="5c891f"/>
                </a:solidFill>
                <a:latin typeface="Bradley Hand ITC"/>
              </a:rPr>
              <a:t> </a:t>
            </a:r>
            <a:r>
              <a:rPr b="1" lang="en-US" sz="4400" spc="-1" strike="noStrike">
                <a:solidFill>
                  <a:srgbClr val="95d442"/>
                </a:solidFill>
                <a:latin typeface="Bradley Hand ITC"/>
              </a:rPr>
              <a:t>irony have tantalized many</a:t>
            </a:r>
            <a:r>
              <a:rPr b="1" lang="en-US" sz="4400" spc="-1" strike="noStrike">
                <a:solidFill>
                  <a:srgbClr val="5c891f"/>
                </a:solidFill>
                <a:latin typeface="Bradley Hand ITC"/>
              </a:rPr>
              <a:t> </a:t>
            </a:r>
            <a:r>
              <a:rPr b="1" lang="en-US" sz="4400" spc="-1" strike="noStrike">
                <a:solidFill>
                  <a:srgbClr val="95d442"/>
                </a:solidFill>
                <a:latin typeface="Bradley Hand ITC"/>
              </a:rPr>
              <a:t>readers for almost two centuries</a:t>
            </a:r>
            <a:r>
              <a:rPr b="1" lang="en-US" sz="4400" spc="-1" strike="noStrike">
                <a:solidFill>
                  <a:srgbClr val="5c891f"/>
                </a:solidFill>
                <a:latin typeface="Bradley Hand ITC"/>
              </a:rPr>
              <a:t>.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00840" y="467676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5d442"/>
                </a:solidFill>
                <a:latin typeface="Bradley Hand ITC"/>
              </a:rPr>
              <a:t>Enjoy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7:38:38Z</dcterms:created>
  <dc:creator>CCOX</dc:creator>
  <dc:description/>
  <dc:language>en-US</dc:language>
  <cp:lastModifiedBy>Virginia Beach City Public Schools</cp:lastModifiedBy>
  <dcterms:modified xsi:type="dcterms:W3CDTF">2007-10-18T17:34:58Z</dcterms:modified>
  <cp:revision>9</cp:revision>
  <dc:subject/>
  <dc:title>Great Expectations</dc:title>
</cp:coreProperties>
</file>